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B17-C905-41D1-85CD-DB0D659E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614-8949-483F-B7B4-7A2411D8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E2E-4B7E-4A96-8B37-1F2A2290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FD0-FAF9-458C-8807-C3534657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B2E-21D0-41ED-A990-9AECF8BA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49C-1715-4C99-A300-F8681E23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6F4-F9D5-4CD6-B375-F73D28FF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BB3-C7FF-4ABF-9ECE-143C8227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4B1-C641-40C1-8870-D2AB0D7D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01A-28E2-411F-810C-B0D3FDCE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F84-10CA-4C09-9930-DEA0AB66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634-69D8-4BD6-8740-B686A8C3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E5D9-F1E0-4848-B4FE-CD11CA7BE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Fraction Wor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blems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Test Sol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by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562720" y="4038480"/>
            <a:ext cx="335268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685800"/>
            <a:ext cx="2666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24 candies in a bag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 eats ¼ of them.  How many are lef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figure out what information you know.  You know that Ben ate ¼ of 24 can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4280" y="4114800"/>
            <a:ext cx="496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math, we write ¼ of 24 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  1 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41148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Ben ate 6.  However, the question is,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w many does he have LE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24 – 6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 has 18 candies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ol is ½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ull.  If you add 400 litres of water, the pool is no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ull.  How much water will the pool h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080" y="259092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agram is most helpful in this case.  Draw a pool with the information you k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09480" y="3581280"/>
            <a:ext cx="4267080" cy="2362320"/>
            <a:chOff x="609480" y="3581280"/>
            <a:chExt cx="4267080" cy="2362320"/>
          </a:xfrm>
        </p:grpSpPr>
        <p:sp>
          <p:nvSpPr>
            <p:cNvPr id="52" name=""/>
            <p:cNvSpPr/>
            <p:nvPr/>
          </p:nvSpPr>
          <p:spPr>
            <a:xfrm>
              <a:off x="609480" y="3581280"/>
              <a:ext cx="3429000" cy="2362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09480" y="4724280"/>
              <a:ext cx="34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09480" y="4495680"/>
              <a:ext cx="34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3352320" y="4724280"/>
              <a:ext cx="880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5029200"/>
              <a:ext cx="8380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4/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276000" y="4190760"/>
              <a:ext cx="1273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04960" y="3849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3000" y="4419360"/>
              <a:ext cx="186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0 lit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34120" y="3048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ter level chang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⅛ with 400 litres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9800" y="4343400"/>
            <a:ext cx="372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whole pool is 8  “⅛’s”, you multiply 400 x 8 to get what the whole pool holds, which is 3200 litr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21:21:33Z</dcterms:created>
  <dc:creator>admin</dc:creator>
  <dc:description/>
  <dc:language>en-US</dc:language>
  <cp:lastModifiedBy>admin</cp:lastModifiedBy>
  <dcterms:modified xsi:type="dcterms:W3CDTF">2007-11-14T21:59:30Z</dcterms:modified>
  <cp:revision>4</cp:revision>
  <dc:subject/>
  <dc:title>How to do Fraction Word Problems</dc:title>
</cp:coreProperties>
</file>